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png" ContentType="image/png"/>
  <Override PartName="/ppt/media/image3.gif" ContentType="image/gif"/>
  <Override PartName="/ppt/media/image5.png" ContentType="image/png"/>
  <Override PartName="/ppt/media/whoosh.wav" ContentType="audio/x-wav"/>
  <Override PartName="/ppt/media/image4.png" ContentType="image/png"/>
  <Override PartName="/ppt/media/image7.gif" ContentType="image/gif"/>
  <Override PartName="/ppt/media/THUNDER2.WAV" ContentType="audio/x-wav"/>
  <Override PartName="/ppt/media/its-awfully-cold.wav" ContentType="audio/x-wav"/>
  <Override PartName="/ppt/media/tbest.wav" ContentType="audio/x-wav"/>
  <Override PartName="/ppt/media/image2.png" ContentType="image/png"/>
  <Override PartName="/ppt/media/chimes.wav" ContentType="audio/x-wav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bark.wav" ContentType="audio/x-wav"/>
  <Override PartName="/ppt/media/laughter.wav" ContentType="audio/x-wav"/>
  <Override PartName="/ppt/media/image13.png" ContentType="image/png"/>
  <Override PartName="/ppt/media/beautiful.wav" ContentType="audio/x-wav"/>
  <Override PartName="/ppt/media/coming2takeme.wav" ContentType="audio/x-wav"/>
  <Override PartName="/ppt/media/image14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image8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E3C-ACC3-4845-A9EB-0FB64D21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FEE-346E-4313-93AA-C103845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D18-D38E-4A43-A271-608381CF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5B6-760B-434C-82CC-36B3DF1D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F9A7-CE03-4A1F-8B9D-06A89CD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1A78-7098-4900-89E0-7AF826B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909-02EC-4B52-89FF-22805DE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AB8C-90AA-4B6B-A26F-2261635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CA1D-3960-4AB8-A218-C287944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847E-6FF4-40A5-B70F-7DAF53BD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F83-E1BB-47CB-AA29-D94A9E4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4E4-4BF0-4032-B93A-244EBFB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C48D-77AB-4F1A-AC19-889D898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08D5-6BA3-4729-A2DF-3CFB863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9BB-D667-4F0F-9B98-030251B2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9FB4-D1A2-47AF-BB33-FCC2887E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5FF-853D-4232-BE26-87C6D09E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DA9-2544-4496-B11F-D928E01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26C-6952-4C30-847C-57D4B5FD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05E-2822-4213-9175-2897357B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50C-8B03-4794-94AA-A990C3A2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A8A-3FAE-405E-9F23-A110B9E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450-AF23-4930-ADB0-951A04D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47D-8DEB-465E-A7C7-72CF405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60B-98B3-4A30-8079-CC625F374E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2B4-F966-450A-8C87-ED2C906068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laughter.wav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audio" Target="../media/bark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audio" Target="../media/beautiful.wav"/><Relationship Id="rId1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audio" Target="../media/coming2takeme.wav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UNDER2.WAV"/><Relationship Id="rId4" Type="http://schemas.openxmlformats.org/officeDocument/2006/relationships/audio" Target="../media/THUNDER2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audio" Target="../media/tbest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its-awfully-cold.wav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19720" y="25146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atricia Reilly Gi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28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228600"/>
            <a:ext cx="8458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nald Morgan Goes to Bat</a:t>
            </a:r>
            <a:endParaRPr b="1" lang="en-US" sz="5400" spc="1" strike="noStrike">
              <a:ln w="1908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always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laugh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at his joke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32004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want either      a dog or cat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2090520" cy="2060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95280" y="457200"/>
            <a:ext cx="3133800" cy="2406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8120" y="4114800"/>
            <a:ext cx="3962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want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eithe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dog or cat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1320" y="1397160"/>
            <a:ext cx="1523880" cy="1501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 is certainly        a beautiful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429000" y="266688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4038480"/>
            <a:ext cx="5257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certainly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beautiful day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429000" y="266688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You’re a nut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800600"/>
            <a:ext cx="3962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78144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You’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a nut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78144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5238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ook at the word carefully as it flashes on the screen and then we will spell it toge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828800"/>
            <a:ext cx="6933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laugh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693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worst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2640" y="7617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hant the words one time as they appea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8288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you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ei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ertai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wo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828800"/>
            <a:ext cx="693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you’re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828800"/>
            <a:ext cx="693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eithe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828800"/>
            <a:ext cx="69339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econ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828800"/>
            <a:ext cx="6933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grea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828800"/>
            <a:ext cx="8229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Comic Sans MS"/>
              </a:rPr>
              <a:t>certain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15238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Verdana"/>
              </a:rPr>
              <a:t>HOME RUN!           Great job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was the worst     storm I have ever see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743120" cy="334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819520" y="304920"/>
            <a:ext cx="1743120" cy="3343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19720" y="4038480"/>
            <a:ext cx="3429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at was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wors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storm I have ever see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174312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THUNDER2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UNDER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e are a great class…simply the BEST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486400" cy="338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3886200"/>
            <a:ext cx="39621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e are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great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ass…simply the BEST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486400" cy="33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0200" y="342900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was the 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secon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       time it snowed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572000"/>
            <a:ext cx="5105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839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is was the 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secon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time it snowed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96216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always laugh      at his jokes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3200400" cy="225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33920" y="4038480"/>
            <a:ext cx="3581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default</cp:lastModifiedBy>
  <dcterms:modified xsi:type="dcterms:W3CDTF">2007-09-29T12:40:57Z</dcterms:modified>
  <cp:revision>49</cp:revision>
  <dc:subject/>
  <dc:title>Slide 1</dc:title>
</cp:coreProperties>
</file>